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4C1-9B14-4E54-ABBE-067169AE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C9E-C43C-4BAD-9A67-DD1173EB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132-D4DB-43F2-ABC6-6324AEB5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A2B-6E2A-495E-BC49-7528B7BA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54F8-596F-4D6F-B1C0-948FD961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3E1D-5DC8-4B63-A60F-60E610C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D364-D038-46B2-8B8C-60DF57E8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6EAA-1E8D-44FF-96D2-1A0985E9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B82B-F059-4BAC-B323-A3A34954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249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3358-DC27-4223-A045-C5482AAB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9BF6-F5A6-4E50-B8F7-6F4B9D0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0A0-A6FF-47AB-9B6E-0F8F8EF8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5B01-A022-44A1-805A-462B559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4D36-0342-4ED2-8C02-13EF3027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7859-FE92-442B-89D8-71101E62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3F07-79CF-4826-AD24-5DAFB388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6DA5-B7B5-428C-94BA-1BF28819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EB1-0318-407C-8C91-552CF92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B62-DFA6-44A0-AB8A-FE609445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BBE-1030-44FD-936B-95427B20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249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AAA-45E7-4AE6-AC64-FB46B47B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D3C-9D70-4051-A368-1D80A36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9DA-EF59-46E9-AC92-B60A104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0E3-C9B3-41A0-8796-D679218D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BF451-D00F-4EC4-B631-404BD02EA4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67720" cy="18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1870F-A86C-4137-8F89-6EC55D5C5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ssia tod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: Marcus Johnson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t F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mmunism to a Free Enterprise Syst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ommunism, the govern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ed the economy of Russia. Government officials decided how much of something farmers should gr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ll of communism had turned Russia’s economy upside dow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ussian government adopted a market economy or free enterprise syst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48320" y="2467080"/>
            <a:ext cx="4038480" cy="3141720"/>
            <a:chOff x="4648320" y="2467080"/>
            <a:chExt cx="4038480" cy="31417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4648320" y="2467080"/>
              <a:ext cx="403848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48320" y="2467080"/>
              <a:ext cx="4038480" cy="31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pros and cons of government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body had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had no freedom on what job they d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vernment had too much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free enterprise 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2796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People started and ran businesses with little or no government interru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2796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They may become unemplo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0080" y="365040"/>
            <a:ext cx="82263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People of Russ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Russia is one of the most populous countries in the world, with 146.5 million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There are many different ethnic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About 75% of the people in Russia live in c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The people are po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0080" y="365040"/>
            <a:ext cx="82263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nvironmental 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uring communism times, Russia was very pollu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ussia had nuclear energy which didn't belch dirty smoke, but had dangerous by- produ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ir pollution has caused people to suffer from cancer and diseases of the lungs. Life expectancy has fall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263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olitical Challe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64880"/>
            <a:ext cx="822636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1200">
              <a:spcBef>
                <a:spcPts val="799"/>
              </a:spcBef>
              <a:buClr>
                <a:srgbClr val="008080"/>
              </a:buClr>
              <a:buSzPct val="71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ahoma"/>
              </a:rPr>
              <a:t>Today Russia is a democracy and a federal re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1200">
              <a:spcBef>
                <a:spcPts val="799"/>
              </a:spcBef>
              <a:buClr>
                <a:srgbClr val="008080"/>
              </a:buClr>
              <a:buSzPct val="71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ahoma"/>
              </a:rPr>
              <a:t>In the past, Russian leaders did what they wanted to. In the new system, they must learn to follow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1200">
              <a:spcBef>
                <a:spcPts val="799"/>
              </a:spcBef>
              <a:buClr>
                <a:srgbClr val="008080"/>
              </a:buClr>
              <a:buSzPct val="71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ahoma"/>
              </a:rPr>
              <a:t>Past governments also punished people who criticized their decisions. Now officials have to learn to accept disagreements over government poli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2263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07Z</dcterms:created>
  <dc:creator> </dc:creator>
  <dc:description/>
  <dc:language>en-US</dc:language>
  <cp:lastModifiedBy> </cp:lastModifiedBy>
  <dcterms:modified xsi:type="dcterms:W3CDTF">2010-12-15T15:27:11Z</dcterms:modified>
  <cp:revision>3</cp:revision>
  <dc:subject/>
  <dc:title>Russia to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